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A981-75A1-4345-97B1-90741EF9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9B11-8EEC-44AA-A640-53043995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0B31-C3DF-463B-A97E-5C7325E70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08E0-6681-425C-B85A-E5F8A737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2919-979F-4F61-8EBD-EDF4662B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A768-C27E-4C74-B81F-71E16DDC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CA60-5A54-4ABB-9C6F-3669F1B2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1440-E1FA-4F38-B965-0EF0E9EF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8E02-F71F-4B47-955C-87841050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8A5E-0B12-4CF1-BFB3-FA93F0DE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6EC5-36F4-4AD9-8619-8332E0E8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5BD6-77BF-4B33-A172-98DC7DBC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6EF6-2F35-45FA-8F74-FD703C122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79640" y="44280"/>
            <a:ext cx="4968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Ravie"/>
              </a:rPr>
              <a:t>orang-utan</a:t>
            </a:r>
            <a:endParaRPr b="0" lang="en-US" sz="1800" spc="1" strike="noStrike">
              <a:ln w="41400">
                <a:solidFill>
                  <a:srgbClr val="00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Ravie"/>
              <a:ea typeface="Ravie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341360"/>
            <a:ext cx="91440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Borneo and Sumatran forests  are home to many orang-utans. Lots of trees in these forests have been bulldozed down for palm tree plantations, and some orang-utans have been killed during the process.  The bulldozing has also destroyed their homes and food sup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Orang-utan means ‘person of the forest’ because they are very much like humans . They have arms that can be 2 metres long. But their population has dropped 35% in the last 20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Male orang-utans have puffy cheeks for mating calls. All orang-utans have to make their nest every night, orang-utans eat leaves, bark and ins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By Jack Johnson Senior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23:21:18Z</dcterms:created>
  <dc:creator>Admin</dc:creator>
  <dc:description/>
  <dc:language>en-US</dc:language>
  <cp:lastModifiedBy>02028372</cp:lastModifiedBy>
  <dcterms:modified xsi:type="dcterms:W3CDTF">2009-03-05T02:25:01Z</dcterms:modified>
  <cp:revision>3</cp:revision>
  <dc:subject/>
  <dc:title>Slide 1</dc:title>
</cp:coreProperties>
</file>